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29B6-F29B-4364-937B-06A532EF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BACF-8854-4845-A787-1FACCFC4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2E1-B3B9-4B08-B017-935493E4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AF6-EC6D-417A-B7E6-53166839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49AC-2F10-420B-ADF0-88DEE037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02AE-FC78-4B23-9BC0-550E76F6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B4A-33B5-4E97-A834-440AA61A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9D2-3AC0-4C26-9C3C-26125117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7843-1188-46F3-8594-855D44DF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C98A-6442-4E27-ACEF-770E3202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DFA-BDFA-4F48-9182-4037714C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A72-F2F7-48D6-8877-71890FF0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FC9D-853D-479E-B610-A1E1B5727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280" y="1071720"/>
          <a:ext cx="8839440" cy="47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71720"/>
                    <a:ext cx="8839440" cy="47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3:50:50Z</dcterms:created>
  <dc:creator>Sudhanshu</dc:creator>
  <dc:description/>
  <dc:language>en-US</dc:language>
  <cp:lastModifiedBy>Sudhanshu</cp:lastModifiedBy>
  <dcterms:modified xsi:type="dcterms:W3CDTF">2009-01-27T23:51:31Z</dcterms:modified>
  <cp:revision>1</cp:revision>
  <dc:subject/>
  <dc:title>Slide 1</dc:title>
</cp:coreProperties>
</file>